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DING.WAV" ContentType="audio/x-wav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2C4-B05D-41AD-9C88-D169BCE6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4B1-6AEA-43D8-8B75-16260CF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C2F-EB90-47CF-9CE0-707D3B3A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286-E190-4DB4-AFCF-5B44188D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8D9-0294-4556-A444-B4089423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524-34B1-4A1F-84FE-54D9308D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B48-7B62-4336-9D46-04B49121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EAD-5337-4871-BBC6-1B8502DC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223-CE87-442C-A9C4-AAF9D00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0BD-1D30-49F2-9E3F-CB77C91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56F-EB2A-43D1-A416-CE3A7D9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1B8-7FA3-4922-8151-7A8A61E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29DA-B0AA-4C79-81B5-9666BF26F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6" name="Rectangle 3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WordArt 4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9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" name="Line 5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6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201-Macro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No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930960" y="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CONSUMPTION AND S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383120" y="755640"/>
            <a:ext cx="494388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AP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Consumption / 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192320" y="2006640"/>
            <a:ext cx="363924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Saving / 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17"/>
          <p:cNvGrpSpPr/>
          <p:nvPr/>
        </p:nvGrpSpPr>
        <p:grpSpPr>
          <a:xfrm>
            <a:off x="1031760" y="5060880"/>
            <a:ext cx="5964480" cy="1795680"/>
            <a:chOff x="1031760" y="5060880"/>
            <a:chExt cx="5964480" cy="1795680"/>
          </a:xfrm>
        </p:grpSpPr>
        <p:sp>
          <p:nvSpPr>
            <p:cNvPr id="154" name="Rectangle 8"/>
            <p:cNvSpPr/>
            <p:nvPr/>
          </p:nvSpPr>
          <p:spPr>
            <a:xfrm>
              <a:off x="1031760" y="5060880"/>
              <a:ext cx="512820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MP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Change in Sav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    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Arial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1335240" y="6311520"/>
              <a:ext cx="56610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6"/>
          <p:cNvGrpSpPr/>
          <p:nvPr/>
        </p:nvGrpSpPr>
        <p:grpSpPr>
          <a:xfrm>
            <a:off x="1052640" y="3182760"/>
            <a:ext cx="6009840" cy="1795680"/>
            <a:chOff x="1052640" y="3182760"/>
            <a:chExt cx="6009840" cy="1795680"/>
          </a:xfrm>
        </p:grpSpPr>
        <p:sp>
          <p:nvSpPr>
            <p:cNvPr id="157" name="Rectangle 5"/>
            <p:cNvSpPr/>
            <p:nvPr/>
          </p:nvSpPr>
          <p:spPr>
            <a:xfrm>
              <a:off x="1052640" y="3182760"/>
              <a:ext cx="510372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Calibri"/>
                </a:rPr>
                <a:t>MP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Calibri"/>
                </a:rPr>
                <a:t>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Calibri"/>
                </a:rPr>
                <a:t>Change in Consump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Calibri"/>
                </a:rPr>
                <a:t>         </a:t>
              </a:r>
              <a:r>
                <a:rPr b="1" lang="en-US" sz="3600" spc="-1" strike="noStrike">
                  <a:solidFill>
                    <a:srgbClr val="cc0000"/>
                  </a:solidFill>
                  <a:latin typeface="Calibri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>
              <a:off x="1325520" y="4425840"/>
              <a:ext cx="573696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rc 2"/>
          <p:cNvSpPr/>
          <p:nvPr/>
        </p:nvSpPr>
        <p:spPr>
          <a:xfrm>
            <a:off x="3987720" y="3713040"/>
            <a:ext cx="208080" cy="39384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8"/>
          <p:cNvGrpSpPr/>
          <p:nvPr/>
        </p:nvGrpSpPr>
        <p:grpSpPr>
          <a:xfrm>
            <a:off x="3571920" y="1055520"/>
            <a:ext cx="3460680" cy="3108600"/>
            <a:chOff x="3571920" y="1055520"/>
            <a:chExt cx="3460680" cy="3108600"/>
          </a:xfrm>
        </p:grpSpPr>
        <p:sp>
          <p:nvSpPr>
            <p:cNvPr id="161" name="Line 5"/>
            <p:cNvSpPr/>
            <p:nvPr/>
          </p:nvSpPr>
          <p:spPr>
            <a:xfrm>
              <a:off x="3571920" y="1055520"/>
              <a:ext cx="0" cy="31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6"/>
            <p:cNvSpPr/>
            <p:nvPr/>
          </p:nvSpPr>
          <p:spPr>
            <a:xfrm>
              <a:off x="3571920" y="413064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"/>
          <p:cNvGrpSpPr/>
          <p:nvPr/>
        </p:nvGrpSpPr>
        <p:grpSpPr>
          <a:xfrm>
            <a:off x="3571920" y="4537080"/>
            <a:ext cx="3460680" cy="1855800"/>
            <a:chOff x="3571920" y="4537080"/>
            <a:chExt cx="3460680" cy="1855800"/>
          </a:xfrm>
        </p:grpSpPr>
        <p:sp>
          <p:nvSpPr>
            <p:cNvPr id="164" name="Line 8"/>
            <p:cNvSpPr/>
            <p:nvPr/>
          </p:nvSpPr>
          <p:spPr>
            <a:xfrm>
              <a:off x="3571920" y="4537080"/>
              <a:ext cx="0" cy="18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3571920" y="579600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0"/>
          <p:cNvSpPr/>
          <p:nvPr/>
        </p:nvSpPr>
        <p:spPr>
          <a:xfrm rot="16200000">
            <a:off x="2050560" y="2026440"/>
            <a:ext cx="214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 rot="16200000">
            <a:off x="2532960" y="528804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265200" y="559440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3265200" y="38926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3592440" y="1064880"/>
            <a:ext cx="2603520" cy="3049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3724560" y="3789360"/>
            <a:ext cx="438120" cy="338760"/>
            <a:chOff x="3724560" y="3789360"/>
            <a:chExt cx="438120" cy="338760"/>
          </a:xfrm>
        </p:grpSpPr>
        <p:sp>
          <p:nvSpPr>
            <p:cNvPr id="172" name="Rectangle 16"/>
            <p:cNvSpPr/>
            <p:nvPr/>
          </p:nvSpPr>
          <p:spPr>
            <a:xfrm>
              <a:off x="3724560" y="38566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3903480" y="378936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Line 18"/>
          <p:cNvSpPr/>
          <p:nvPr/>
        </p:nvSpPr>
        <p:spPr>
          <a:xfrm flipV="1">
            <a:off x="3699000" y="1628640"/>
            <a:ext cx="3001680" cy="19670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6890040" y="1368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0"/>
          <p:cNvSpPr/>
          <p:nvPr/>
        </p:nvSpPr>
        <p:spPr>
          <a:xfrm flipH="1">
            <a:off x="4492440" y="3125880"/>
            <a:ext cx="14040" cy="9604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1"/>
          <p:cNvSpPr/>
          <p:nvPr/>
        </p:nvSpPr>
        <p:spPr>
          <a:xfrm flipV="1">
            <a:off x="3684600" y="5181120"/>
            <a:ext cx="3006720" cy="839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6624720" y="50148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5763240" y="2479680"/>
            <a:ext cx="148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5068080" y="4773600"/>
            <a:ext cx="1059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3576960" y="30654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3529080" y="60181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4454280" y="419724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4462200" y="613404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6473520" y="1047600"/>
            <a:ext cx="115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7154640" y="5357880"/>
            <a:ext cx="115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5311800" y="1389240"/>
            <a:ext cx="1255680" cy="944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2"/>
          <p:cNvSpPr/>
          <p:nvPr/>
        </p:nvSpPr>
        <p:spPr>
          <a:xfrm flipH="1">
            <a:off x="5729400" y="5560920"/>
            <a:ext cx="1395360" cy="66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3"/>
          <p:cNvSpPr/>
          <p:nvPr/>
        </p:nvSpPr>
        <p:spPr>
          <a:xfrm>
            <a:off x="1752480" y="3695760"/>
            <a:ext cx="143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SA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1765440" y="606276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S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5"/>
          <p:cNvSpPr/>
          <p:nvPr/>
        </p:nvSpPr>
        <p:spPr>
          <a:xfrm flipV="1">
            <a:off x="3122640" y="3666600"/>
            <a:ext cx="776160" cy="203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6"/>
          <p:cNvSpPr/>
          <p:nvPr/>
        </p:nvSpPr>
        <p:spPr>
          <a:xfrm flipV="1">
            <a:off x="2998800" y="5838840"/>
            <a:ext cx="824040" cy="388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6033600" y="3071880"/>
            <a:ext cx="27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PC = Slope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8"/>
          <p:cNvSpPr/>
          <p:nvPr/>
        </p:nvSpPr>
        <p:spPr>
          <a:xfrm flipH="1" flipV="1">
            <a:off x="5291280" y="2627280"/>
            <a:ext cx="738000" cy="5889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6115320" y="4522680"/>
            <a:ext cx="268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PS = Slope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0"/>
          <p:cNvSpPr/>
          <p:nvPr/>
        </p:nvSpPr>
        <p:spPr>
          <a:xfrm flipH="1">
            <a:off x="6308280" y="4870440"/>
            <a:ext cx="266760" cy="274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5910120" y="3497400"/>
            <a:ext cx="311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MPC + MP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841320" y="20952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CONSUMPTION AND S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9"/>
          <p:cNvSpPr/>
          <p:nvPr/>
        </p:nvSpPr>
        <p:spPr>
          <a:xfrm flipH="1">
            <a:off x="4451400" y="4552920"/>
            <a:ext cx="14400" cy="1214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3979080" y="1666800"/>
            <a:ext cx="4192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9"/>
          <p:cNvGrpSpPr/>
          <p:nvPr/>
        </p:nvGrpSpPr>
        <p:grpSpPr>
          <a:xfrm>
            <a:off x="4232160" y="2079720"/>
            <a:ext cx="3164040" cy="3776400"/>
            <a:chOff x="4232160" y="2079720"/>
            <a:chExt cx="3164040" cy="3776400"/>
          </a:xfrm>
        </p:grpSpPr>
        <p:sp>
          <p:nvSpPr>
            <p:cNvPr id="202" name="Rectangle 4"/>
            <p:cNvSpPr/>
            <p:nvPr/>
          </p:nvSpPr>
          <p:spPr>
            <a:xfrm>
              <a:off x="4232160" y="2079720"/>
              <a:ext cx="316404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4232160" y="2604960"/>
              <a:ext cx="304812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232160" y="3090960"/>
              <a:ext cx="209088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232160" y="3614760"/>
              <a:ext cx="1973520" cy="2998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4232160" y="4100400"/>
              <a:ext cx="187956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4232160" y="4586400"/>
              <a:ext cx="173196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232160" y="5072040"/>
              <a:ext cx="159408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232160" y="5557680"/>
              <a:ext cx="598680" cy="298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Object 21"/>
          <p:cNvGraphicFramePr/>
          <p:nvPr/>
        </p:nvGraphicFramePr>
        <p:xfrm>
          <a:off x="7007400" y="3592440"/>
          <a:ext cx="1728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7400" y="3592440"/>
                    <a:ext cx="1728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31"/>
          <p:cNvSpPr/>
          <p:nvPr/>
        </p:nvSpPr>
        <p:spPr>
          <a:xfrm>
            <a:off x="1686600" y="1897200"/>
            <a:ext cx="253440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38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214" name="Freeform 39"/>
            <p:cNvSpPr/>
            <p:nvPr/>
          </p:nvSpPr>
          <p:spPr>
            <a:xfrm>
              <a:off x="2141280" y="177840"/>
              <a:ext cx="393840" cy="1244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40"/>
            <p:cNvSpPr/>
            <p:nvPr/>
          </p:nvSpPr>
          <p:spPr>
            <a:xfrm>
              <a:off x="2498400" y="182520"/>
              <a:ext cx="390600" cy="123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42"/>
            <p:cNvSpPr/>
            <p:nvPr/>
          </p:nvSpPr>
          <p:spPr>
            <a:xfrm>
              <a:off x="1900080" y="763560"/>
              <a:ext cx="1220760" cy="73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43"/>
            <p:cNvSpPr/>
            <p:nvPr/>
          </p:nvSpPr>
          <p:spPr>
            <a:xfrm>
              <a:off x="2035080" y="1031760"/>
              <a:ext cx="961920" cy="195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4"/>
            <p:cNvSpPr/>
            <p:nvPr/>
          </p:nvSpPr>
          <p:spPr>
            <a:xfrm>
              <a:off x="2030400" y="368280"/>
              <a:ext cx="974520" cy="200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45"/>
            <p:cNvSpPr/>
            <p:nvPr/>
          </p:nvSpPr>
          <p:spPr>
            <a:xfrm>
              <a:off x="1868400" y="154080"/>
              <a:ext cx="1292040" cy="129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 Box 46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2388960" y="674640"/>
            <a:ext cx="6070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verage Propensities to Consu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lected Nations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4427280" y="6437160"/>
            <a:ext cx="350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istical Abstract of the United States, 200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9"/>
          <p:cNvSpPr/>
          <p:nvPr/>
        </p:nvSpPr>
        <p:spPr>
          <a:xfrm>
            <a:off x="1717560" y="44280"/>
            <a:ext cx="74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ONINCOME DETERMINANT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OF CONSUMPTION AND SA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1932120" y="1290600"/>
            <a:ext cx="678492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Weal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Wealth Eff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Expect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Real Interest 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Household Deb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Tax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1932120" y="579600"/>
            <a:ext cx="678492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Terminolog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Schedule Shift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800" spc="-1" strike="noStrike">
                <a:solidFill>
                  <a:srgbClr val="cc0000"/>
                </a:solidFill>
                <a:latin typeface="Arial"/>
              </a:rPr>
              <a:t>Stabilit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260240" y="4108320"/>
            <a:ext cx="37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raphicall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715760" y="68400"/>
            <a:ext cx="73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ERMINOLOGY, SHIFTS, &amp;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48"/>
          <p:cNvSpPr/>
          <p:nvPr/>
        </p:nvSpPr>
        <p:spPr>
          <a:xfrm>
            <a:off x="5243400" y="2008080"/>
            <a:ext cx="0" cy="35974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rc 4"/>
          <p:cNvSpPr/>
          <p:nvPr/>
        </p:nvSpPr>
        <p:spPr>
          <a:xfrm>
            <a:off x="3987720" y="3522600"/>
            <a:ext cx="208080" cy="39384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5"/>
          <p:cNvGrpSpPr/>
          <p:nvPr/>
        </p:nvGrpSpPr>
        <p:grpSpPr>
          <a:xfrm>
            <a:off x="3571920" y="865080"/>
            <a:ext cx="3460680" cy="3108600"/>
            <a:chOff x="3571920" y="865080"/>
            <a:chExt cx="3460680" cy="3108600"/>
          </a:xfrm>
        </p:grpSpPr>
        <p:sp>
          <p:nvSpPr>
            <p:cNvPr id="232" name="Line 6"/>
            <p:cNvSpPr/>
            <p:nvPr/>
          </p:nvSpPr>
          <p:spPr>
            <a:xfrm>
              <a:off x="3571920" y="865080"/>
              <a:ext cx="0" cy="31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3571920" y="394020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3571920" y="4346640"/>
            <a:ext cx="3460680" cy="1855800"/>
            <a:chOff x="3571920" y="4346640"/>
            <a:chExt cx="3460680" cy="1855800"/>
          </a:xfrm>
        </p:grpSpPr>
        <p:sp>
          <p:nvSpPr>
            <p:cNvPr id="235" name="Line 9"/>
            <p:cNvSpPr/>
            <p:nvPr/>
          </p:nvSpPr>
          <p:spPr>
            <a:xfrm>
              <a:off x="3571920" y="4346640"/>
              <a:ext cx="0" cy="18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0"/>
            <p:cNvSpPr/>
            <p:nvPr/>
          </p:nvSpPr>
          <p:spPr>
            <a:xfrm>
              <a:off x="3571920" y="560556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Rectangle 11"/>
          <p:cNvSpPr/>
          <p:nvPr/>
        </p:nvSpPr>
        <p:spPr>
          <a:xfrm rot="16200000">
            <a:off x="2050560" y="1836000"/>
            <a:ext cx="214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 rot="16200000">
            <a:off x="2532960" y="509760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3265200" y="5403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265200" y="37018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3592440" y="874440"/>
            <a:ext cx="2603520" cy="3049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16"/>
          <p:cNvGrpSpPr/>
          <p:nvPr/>
        </p:nvGrpSpPr>
        <p:grpSpPr>
          <a:xfrm>
            <a:off x="3724560" y="3598920"/>
            <a:ext cx="438120" cy="338760"/>
            <a:chOff x="3724560" y="3598920"/>
            <a:chExt cx="438120" cy="338760"/>
          </a:xfrm>
        </p:grpSpPr>
        <p:sp>
          <p:nvSpPr>
            <p:cNvPr id="243" name="Rectangle 17"/>
            <p:cNvSpPr/>
            <p:nvPr/>
          </p:nvSpPr>
          <p:spPr>
            <a:xfrm>
              <a:off x="3724560" y="36662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8"/>
            <p:cNvSpPr/>
            <p:nvPr/>
          </p:nvSpPr>
          <p:spPr>
            <a:xfrm>
              <a:off x="3903480" y="359892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 flipV="1">
            <a:off x="3699000" y="1438200"/>
            <a:ext cx="3001680" cy="19670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6680880" y="117792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4506840" y="2935440"/>
            <a:ext cx="0" cy="2682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 flipV="1">
            <a:off x="3684600" y="4990680"/>
            <a:ext cx="3006720" cy="839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6631560" y="467208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4454280" y="40068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4462200" y="59436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3"/>
          <p:cNvSpPr/>
          <p:nvPr/>
        </p:nvSpPr>
        <p:spPr>
          <a:xfrm flipV="1">
            <a:off x="3711600" y="1031760"/>
            <a:ext cx="3002040" cy="19670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4"/>
          <p:cNvSpPr/>
          <p:nvPr/>
        </p:nvSpPr>
        <p:spPr>
          <a:xfrm flipV="1">
            <a:off x="3722760" y="5194440"/>
            <a:ext cx="3006720" cy="8395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5"/>
          <p:cNvSpPr/>
          <p:nvPr/>
        </p:nvSpPr>
        <p:spPr>
          <a:xfrm>
            <a:off x="6668280" y="77148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6"/>
          <p:cNvSpPr/>
          <p:nvPr/>
        </p:nvSpPr>
        <p:spPr>
          <a:xfrm>
            <a:off x="6669720" y="497664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1715760" y="68400"/>
            <a:ext cx="73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ERMINOLOGY, SHIFTS, &amp;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9"/>
          <p:cNvSpPr/>
          <p:nvPr/>
        </p:nvSpPr>
        <p:spPr>
          <a:xfrm>
            <a:off x="6829920" y="1768320"/>
            <a:ext cx="2021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ncrease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Mean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0"/>
          <p:cNvSpPr/>
          <p:nvPr/>
        </p:nvSpPr>
        <p:spPr>
          <a:xfrm>
            <a:off x="7122240" y="4473720"/>
            <a:ext cx="1730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A Decre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n S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3924360" y="5231880"/>
            <a:ext cx="2235240" cy="648000"/>
            <a:chOff x="3924360" y="5231880"/>
            <a:chExt cx="2235240" cy="648000"/>
          </a:xfrm>
        </p:grpSpPr>
        <p:sp>
          <p:nvSpPr>
            <p:cNvPr id="260" name="AutoShape 51"/>
            <p:cNvSpPr/>
            <p:nvPr/>
          </p:nvSpPr>
          <p:spPr>
            <a:xfrm flipV="1">
              <a:off x="3924360" y="5784120"/>
              <a:ext cx="253800" cy="954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52"/>
            <p:cNvSpPr/>
            <p:nvPr/>
          </p:nvSpPr>
          <p:spPr>
            <a:xfrm flipV="1">
              <a:off x="5905440" y="5231520"/>
              <a:ext cx="254160" cy="954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55"/>
          <p:cNvGrpSpPr/>
          <p:nvPr/>
        </p:nvGrpSpPr>
        <p:grpSpPr>
          <a:xfrm>
            <a:off x="3924360" y="1568520"/>
            <a:ext cx="2235240" cy="1511280"/>
            <a:chOff x="3924360" y="1568520"/>
            <a:chExt cx="2235240" cy="1511280"/>
          </a:xfrm>
        </p:grpSpPr>
        <p:sp>
          <p:nvSpPr>
            <p:cNvPr id="263" name="AutoShape 53"/>
            <p:cNvSpPr/>
            <p:nvPr/>
          </p:nvSpPr>
          <p:spPr>
            <a:xfrm>
              <a:off x="3924360" y="2863800"/>
              <a:ext cx="25380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54"/>
            <p:cNvSpPr/>
            <p:nvPr/>
          </p:nvSpPr>
          <p:spPr>
            <a:xfrm>
              <a:off x="5905440" y="1568520"/>
              <a:ext cx="25416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Line 2"/>
          <p:cNvSpPr/>
          <p:nvPr/>
        </p:nvSpPr>
        <p:spPr>
          <a:xfrm>
            <a:off x="3846600" y="3319560"/>
            <a:ext cx="0" cy="24508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rc 3"/>
          <p:cNvSpPr/>
          <p:nvPr/>
        </p:nvSpPr>
        <p:spPr>
          <a:xfrm>
            <a:off x="3987720" y="3522600"/>
            <a:ext cx="208080" cy="39384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3571920" y="865080"/>
            <a:ext cx="3460680" cy="3108600"/>
            <a:chOff x="3571920" y="865080"/>
            <a:chExt cx="3460680" cy="3108600"/>
          </a:xfrm>
        </p:grpSpPr>
        <p:sp>
          <p:nvSpPr>
            <p:cNvPr id="268" name="Line 5"/>
            <p:cNvSpPr/>
            <p:nvPr/>
          </p:nvSpPr>
          <p:spPr>
            <a:xfrm>
              <a:off x="3571920" y="865080"/>
              <a:ext cx="0" cy="31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6"/>
            <p:cNvSpPr/>
            <p:nvPr/>
          </p:nvSpPr>
          <p:spPr>
            <a:xfrm>
              <a:off x="3571920" y="394020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7"/>
          <p:cNvGrpSpPr/>
          <p:nvPr/>
        </p:nvGrpSpPr>
        <p:grpSpPr>
          <a:xfrm>
            <a:off x="3571920" y="4346640"/>
            <a:ext cx="3460680" cy="1855800"/>
            <a:chOff x="3571920" y="4346640"/>
            <a:chExt cx="3460680" cy="1855800"/>
          </a:xfrm>
        </p:grpSpPr>
        <p:sp>
          <p:nvSpPr>
            <p:cNvPr id="271" name="Line 8"/>
            <p:cNvSpPr/>
            <p:nvPr/>
          </p:nvSpPr>
          <p:spPr>
            <a:xfrm>
              <a:off x="3571920" y="4346640"/>
              <a:ext cx="0" cy="18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3571920" y="5605560"/>
              <a:ext cx="3460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10"/>
          <p:cNvSpPr/>
          <p:nvPr/>
        </p:nvSpPr>
        <p:spPr>
          <a:xfrm rot="16200000">
            <a:off x="2050560" y="1836000"/>
            <a:ext cx="214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 rot="16200000">
            <a:off x="2532960" y="509760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3265200" y="5403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3265200" y="37018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3592440" y="874440"/>
            <a:ext cx="2603520" cy="3049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3787920" y="3598920"/>
            <a:ext cx="438480" cy="338760"/>
            <a:chOff x="3787920" y="3598920"/>
            <a:chExt cx="438480" cy="338760"/>
          </a:xfrm>
        </p:grpSpPr>
        <p:sp>
          <p:nvSpPr>
            <p:cNvPr id="279" name="Rectangle 16"/>
            <p:cNvSpPr/>
            <p:nvPr/>
          </p:nvSpPr>
          <p:spPr>
            <a:xfrm>
              <a:off x="3787920" y="36662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7"/>
            <p:cNvSpPr/>
            <p:nvPr/>
          </p:nvSpPr>
          <p:spPr>
            <a:xfrm>
              <a:off x="3967200" y="3598920"/>
              <a:ext cx="25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18"/>
          <p:cNvSpPr/>
          <p:nvPr/>
        </p:nvSpPr>
        <p:spPr>
          <a:xfrm flipV="1">
            <a:off x="3699000" y="1438200"/>
            <a:ext cx="3001680" cy="19670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6680880" y="117792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06840" y="2935440"/>
            <a:ext cx="0" cy="2682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 flipV="1">
            <a:off x="3684600" y="4990680"/>
            <a:ext cx="3006720" cy="839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6631560" y="472284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4454280" y="40068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4462200" y="5943600"/>
            <a:ext cx="249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V="1">
            <a:off x="3711600" y="1654200"/>
            <a:ext cx="3002040" cy="19670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3722760" y="4800240"/>
            <a:ext cx="3006720" cy="8398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6668280" y="144468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8"/>
          <p:cNvSpPr/>
          <p:nvPr/>
        </p:nvSpPr>
        <p:spPr>
          <a:xfrm>
            <a:off x="6669720" y="443088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1175760" y="189000"/>
            <a:ext cx="73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ERMINOLOGY, SHIFTS, &amp;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29920" y="1768320"/>
            <a:ext cx="2021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Decrease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Mean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7084800" y="4473720"/>
            <a:ext cx="184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An Incre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n S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9"/>
          <p:cNvGrpSpPr/>
          <p:nvPr/>
        </p:nvGrpSpPr>
        <p:grpSpPr>
          <a:xfrm>
            <a:off x="3924360" y="1873080"/>
            <a:ext cx="2235240" cy="1511640"/>
            <a:chOff x="3924360" y="1873080"/>
            <a:chExt cx="2235240" cy="1511640"/>
          </a:xfrm>
        </p:grpSpPr>
        <p:sp>
          <p:nvSpPr>
            <p:cNvPr id="296" name="AutoShape 36"/>
            <p:cNvSpPr/>
            <p:nvPr/>
          </p:nvSpPr>
          <p:spPr>
            <a:xfrm flipV="1">
              <a:off x="3924360" y="3168720"/>
              <a:ext cx="25380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37"/>
            <p:cNvSpPr/>
            <p:nvPr/>
          </p:nvSpPr>
          <p:spPr>
            <a:xfrm flipV="1">
              <a:off x="5905440" y="1873080"/>
              <a:ext cx="254160" cy="216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40"/>
          <p:cNvGrpSpPr/>
          <p:nvPr/>
        </p:nvGrpSpPr>
        <p:grpSpPr>
          <a:xfrm>
            <a:off x="3867120" y="5035680"/>
            <a:ext cx="2292480" cy="672840"/>
            <a:chOff x="3867120" y="5035680"/>
            <a:chExt cx="2292480" cy="672840"/>
          </a:xfrm>
        </p:grpSpPr>
        <p:sp>
          <p:nvSpPr>
            <p:cNvPr id="299" name="AutoShape 33"/>
            <p:cNvSpPr/>
            <p:nvPr/>
          </p:nvSpPr>
          <p:spPr>
            <a:xfrm>
              <a:off x="3867120" y="5587920"/>
              <a:ext cx="343080" cy="1206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AutoShape 34"/>
            <p:cNvSpPr/>
            <p:nvPr/>
          </p:nvSpPr>
          <p:spPr>
            <a:xfrm>
              <a:off x="5848200" y="5035680"/>
              <a:ext cx="311400" cy="1080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1939680" y="1181160"/>
            <a:ext cx="6989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xpected Rate of Return,  </a:t>
            </a:r>
            <a:r>
              <a:rPr b="1" i="1" lang="en-US" sz="66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1940400" y="2182680"/>
            <a:ext cx="53265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al Interest Rate,  </a:t>
            </a:r>
            <a:r>
              <a:rPr b="1" i="1" lang="en-US" sz="6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2048040" y="3676680"/>
            <a:ext cx="6454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Inverse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relationship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Investment demand and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expected rate of 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1873080" y="58680"/>
            <a:ext cx="710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terest Rate – Inves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Relation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2190960" y="5614920"/>
            <a:ext cx="6178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Graphically presente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3373560" y="852480"/>
            <a:ext cx="5470560" cy="4735440"/>
            <a:chOff x="3373560" y="852480"/>
            <a:chExt cx="5470560" cy="4735440"/>
          </a:xfrm>
        </p:grpSpPr>
        <p:sp>
          <p:nvSpPr>
            <p:cNvPr id="307" name="Line 3"/>
            <p:cNvSpPr/>
            <p:nvPr/>
          </p:nvSpPr>
          <p:spPr>
            <a:xfrm>
              <a:off x="3382920" y="852480"/>
              <a:ext cx="0" cy="473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"/>
            <p:cNvSpPr/>
            <p:nvPr/>
          </p:nvSpPr>
          <p:spPr>
            <a:xfrm>
              <a:off x="3373560" y="5581800"/>
              <a:ext cx="5470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5"/>
          <p:cNvSpPr/>
          <p:nvPr/>
        </p:nvSpPr>
        <p:spPr>
          <a:xfrm>
            <a:off x="3993120" y="6126120"/>
            <a:ext cx="386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 (billions of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 rot="16200000">
            <a:off x="543960" y="2656080"/>
            <a:ext cx="3733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rate of return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interest rat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erc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890800" y="1035000"/>
            <a:ext cx="43452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33"/>
          <p:cNvGrpSpPr/>
          <p:nvPr/>
        </p:nvGrpSpPr>
        <p:grpSpPr>
          <a:xfrm>
            <a:off x="3367080" y="1779480"/>
            <a:ext cx="3843360" cy="3248280"/>
            <a:chOff x="3367080" y="1779480"/>
            <a:chExt cx="3843360" cy="3248280"/>
          </a:xfrm>
        </p:grpSpPr>
        <p:sp>
          <p:nvSpPr>
            <p:cNvPr id="313" name="Line 8"/>
            <p:cNvSpPr/>
            <p:nvPr/>
          </p:nvSpPr>
          <p:spPr>
            <a:xfrm>
              <a:off x="3390840" y="177948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9"/>
            <p:cNvSpPr/>
            <p:nvPr/>
          </p:nvSpPr>
          <p:spPr>
            <a:xfrm>
              <a:off x="3367080" y="2336760"/>
              <a:ext cx="1101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424320" y="2870280"/>
              <a:ext cx="1533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3409920" y="3427560"/>
              <a:ext cx="2151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3371760" y="393696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3381480" y="4494240"/>
              <a:ext cx="3317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367080" y="5027760"/>
              <a:ext cx="384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4"/>
          <p:cNvGrpSpPr/>
          <p:nvPr/>
        </p:nvGrpSpPr>
        <p:grpSpPr>
          <a:xfrm>
            <a:off x="3916440" y="1806480"/>
            <a:ext cx="3224160" cy="3786120"/>
            <a:chOff x="3916440" y="1806480"/>
            <a:chExt cx="3224160" cy="3786120"/>
          </a:xfrm>
        </p:grpSpPr>
        <p:sp>
          <p:nvSpPr>
            <p:cNvPr id="321" name="Line 15"/>
            <p:cNvSpPr/>
            <p:nvPr/>
          </p:nvSpPr>
          <p:spPr>
            <a:xfrm>
              <a:off x="3916440" y="1806480"/>
              <a:ext cx="0" cy="3729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6"/>
            <p:cNvSpPr/>
            <p:nvPr/>
          </p:nvSpPr>
          <p:spPr>
            <a:xfrm>
              <a:off x="4449600" y="2292480"/>
              <a:ext cx="0" cy="3290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7"/>
            <p:cNvSpPr/>
            <p:nvPr/>
          </p:nvSpPr>
          <p:spPr>
            <a:xfrm>
              <a:off x="4983120" y="2878200"/>
              <a:ext cx="0" cy="2714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>
              <a:off x="5564160" y="3435480"/>
              <a:ext cx="0" cy="21430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9"/>
            <p:cNvSpPr/>
            <p:nvPr/>
          </p:nvSpPr>
          <p:spPr>
            <a:xfrm>
              <a:off x="6049800" y="3946680"/>
              <a:ext cx="0" cy="1641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0"/>
            <p:cNvSpPr/>
            <p:nvPr/>
          </p:nvSpPr>
          <p:spPr>
            <a:xfrm>
              <a:off x="6607080" y="4527720"/>
              <a:ext cx="0" cy="1046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1"/>
            <p:cNvSpPr/>
            <p:nvPr/>
          </p:nvSpPr>
          <p:spPr>
            <a:xfrm>
              <a:off x="7140600" y="5038560"/>
              <a:ext cx="0" cy="544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Line 22"/>
          <p:cNvSpPr/>
          <p:nvPr/>
        </p:nvSpPr>
        <p:spPr>
          <a:xfrm>
            <a:off x="3422520" y="1260360"/>
            <a:ext cx="4267440" cy="4267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4990680" y="1784520"/>
            <a:ext cx="34488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INVES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DEM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5"/>
          <p:cNvSpPr/>
          <p:nvPr/>
        </p:nvSpPr>
        <p:spPr>
          <a:xfrm>
            <a:off x="3753360" y="5680080"/>
            <a:ext cx="412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 10     15     20    25     30    35  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7553880" y="490392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1109520" y="0"/>
            <a:ext cx="80344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Interest Rate – Investment   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1881360" y="896760"/>
            <a:ext cx="690228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quisition,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intenance, and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usiness T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echnological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ock of Capital Goods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n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757880" y="69840"/>
            <a:ext cx="735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SHIFTS IN INVESTMENT DEM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to be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croeconomic variables and their mutual relationshi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croeconomic vari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v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est r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sic Macroeconomic relationshi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me- consum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me -Sav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est rate- Inves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lation- Unemployment 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336" name="Freeform 5"/>
            <p:cNvSpPr/>
            <p:nvPr/>
          </p:nvSpPr>
          <p:spPr>
            <a:xfrm>
              <a:off x="2141280" y="177840"/>
              <a:ext cx="393840" cy="1244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>
              <a:off x="2498400" y="182520"/>
              <a:ext cx="390600" cy="123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>
              <a:off x="1900080" y="763560"/>
              <a:ext cx="1220760" cy="73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>
              <a:off x="2035080" y="1031760"/>
              <a:ext cx="961920" cy="195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030400" y="368280"/>
              <a:ext cx="974520" cy="200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1868400" y="154080"/>
              <a:ext cx="1292040" cy="129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Text Box 12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2388600" y="674640"/>
            <a:ext cx="646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ross Investment Expenditures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ercentage of GDP, Selected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9"/>
          <p:cNvGrpSpPr/>
          <p:nvPr/>
        </p:nvGrpSpPr>
        <p:grpSpPr>
          <a:xfrm>
            <a:off x="2392200" y="2260440"/>
            <a:ext cx="6251760" cy="3529080"/>
            <a:chOff x="2392200" y="2260440"/>
            <a:chExt cx="6251760" cy="3529080"/>
          </a:xfrm>
        </p:grpSpPr>
        <p:sp>
          <p:nvSpPr>
            <p:cNvPr id="346" name="Rectangle 24"/>
            <p:cNvSpPr/>
            <p:nvPr/>
          </p:nvSpPr>
          <p:spPr>
            <a:xfrm>
              <a:off x="3870360" y="3070080"/>
              <a:ext cx="349200" cy="26607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4608360" y="3079800"/>
              <a:ext cx="346320" cy="2658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5335560" y="3208320"/>
              <a:ext cx="349200" cy="25416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6093000" y="3222720"/>
              <a:ext cx="345960" cy="2536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6837480" y="3227400"/>
              <a:ext cx="349200" cy="25416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569360" y="3549600"/>
              <a:ext cx="345960" cy="22287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8292960" y="3683160"/>
              <a:ext cx="351000" cy="2106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2392200" y="2260440"/>
              <a:ext cx="351000" cy="34704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3144960" y="2854440"/>
              <a:ext cx="345960" cy="28843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33"/>
          <p:cNvSpPr/>
          <p:nvPr/>
        </p:nvSpPr>
        <p:spPr>
          <a:xfrm>
            <a:off x="1735200" y="1836720"/>
            <a:ext cx="70308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40"/>
          <p:cNvGrpSpPr/>
          <p:nvPr/>
        </p:nvGrpSpPr>
        <p:grpSpPr>
          <a:xfrm>
            <a:off x="2224800" y="5884920"/>
            <a:ext cx="6718680" cy="515160"/>
            <a:chOff x="2224800" y="5884920"/>
            <a:chExt cx="6718680" cy="515160"/>
          </a:xfrm>
        </p:grpSpPr>
        <p:sp>
          <p:nvSpPr>
            <p:cNvPr id="357" name="Rectangle 15"/>
            <p:cNvSpPr/>
            <p:nvPr/>
          </p:nvSpPr>
          <p:spPr>
            <a:xfrm>
              <a:off x="5788080" y="5884920"/>
              <a:ext cx="954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5127840" y="5884920"/>
              <a:ext cx="76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17"/>
            <p:cNvSpPr/>
            <p:nvPr/>
          </p:nvSpPr>
          <p:spPr>
            <a:xfrm>
              <a:off x="4413240" y="5884920"/>
              <a:ext cx="734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8"/>
            <p:cNvSpPr/>
            <p:nvPr/>
          </p:nvSpPr>
          <p:spPr>
            <a:xfrm>
              <a:off x="6601320" y="5884920"/>
              <a:ext cx="822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9"/>
            <p:cNvSpPr/>
            <p:nvPr/>
          </p:nvSpPr>
          <p:spPr>
            <a:xfrm>
              <a:off x="3652560" y="58849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0"/>
            <p:cNvSpPr/>
            <p:nvPr/>
          </p:nvSpPr>
          <p:spPr>
            <a:xfrm>
              <a:off x="7992360" y="5884920"/>
              <a:ext cx="9511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ing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21"/>
            <p:cNvSpPr/>
            <p:nvPr/>
          </p:nvSpPr>
          <p:spPr>
            <a:xfrm>
              <a:off x="7315560" y="5884920"/>
              <a:ext cx="853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34"/>
            <p:cNvSpPr/>
            <p:nvPr/>
          </p:nvSpPr>
          <p:spPr>
            <a:xfrm>
              <a:off x="2970360" y="5884920"/>
              <a:ext cx="69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35"/>
            <p:cNvSpPr/>
            <p:nvPr/>
          </p:nvSpPr>
          <p:spPr>
            <a:xfrm>
              <a:off x="2224800" y="5884920"/>
              <a:ext cx="6858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Text Box 38"/>
          <p:cNvSpPr/>
          <p:nvPr/>
        </p:nvSpPr>
        <p:spPr>
          <a:xfrm>
            <a:off x="5732640" y="6437160"/>
            <a:ext cx="16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World B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1725480" y="847800"/>
            <a:ext cx="71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Durability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Irregularity of  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Variability of Profit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Variability of 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cc0000"/>
                </a:solidFill>
                <a:latin typeface="Arial"/>
              </a:rPr>
              <a:t>Expectation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861920" y="11916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STABILITY OF INVES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944360" y="4371840"/>
            <a:ext cx="6850080" cy="1098720"/>
            <a:chOff x="1944360" y="4371840"/>
            <a:chExt cx="6850080" cy="1098720"/>
          </a:xfrm>
        </p:grpSpPr>
        <p:sp>
          <p:nvSpPr>
            <p:cNvPr id="370" name="Rectangle 3"/>
            <p:cNvSpPr/>
            <p:nvPr/>
          </p:nvSpPr>
          <p:spPr>
            <a:xfrm>
              <a:off x="1944360" y="4406760"/>
              <a:ext cx="15163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GD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3392280" y="442584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3889440" y="4655880"/>
              <a:ext cx="2068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5788080" y="4449600"/>
              <a:ext cx="5198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6272280" y="4371840"/>
              <a:ext cx="25221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8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1847520" y="1339920"/>
            <a:ext cx="6970680" cy="1218960"/>
            <a:chOff x="1847520" y="1339920"/>
            <a:chExt cx="6970680" cy="1218960"/>
          </a:xfrm>
        </p:grpSpPr>
        <p:sp>
          <p:nvSpPr>
            <p:cNvPr id="377" name="Rectangle 10"/>
            <p:cNvSpPr/>
            <p:nvPr/>
          </p:nvSpPr>
          <p:spPr>
            <a:xfrm>
              <a:off x="1847520" y="1604880"/>
              <a:ext cx="2299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4003560" y="138744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4746600" y="1973160"/>
              <a:ext cx="3878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3"/>
            <p:cNvSpPr/>
            <p:nvPr/>
          </p:nvSpPr>
          <p:spPr>
            <a:xfrm>
              <a:off x="5010840" y="1339920"/>
              <a:ext cx="33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 Real 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553280" y="2038320"/>
              <a:ext cx="426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 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18"/>
          <p:cNvSpPr/>
          <p:nvPr/>
        </p:nvSpPr>
        <p:spPr>
          <a:xfrm rot="2892000">
            <a:off x="2405520" y="3205800"/>
            <a:ext cx="3071880" cy="495360"/>
          </a:xfrm>
          <a:prstGeom prst="leftRightArrow">
            <a:avLst>
              <a:gd name="adj1" fmla="val 50000"/>
              <a:gd name="adj2" fmla="val 123452"/>
            </a:avLst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87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4407120" y="5767560"/>
            <a:ext cx="47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For Exampl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8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1476000" y="1924200"/>
            <a:ext cx="291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of $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1757880" y="280512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752840" y="338616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1747800" y="396720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1742400" y="45482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1738440" y="5057640"/>
            <a:ext cx="15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1730880" y="582624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4403520" y="1190520"/>
            <a:ext cx="12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hang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5676840" y="946080"/>
            <a:ext cx="16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hang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MPC = .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7329240" y="946080"/>
            <a:ext cx="148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hang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MPS = 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4580280" y="2168640"/>
            <a:ext cx="101880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 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6075360" y="2163600"/>
            <a:ext cx="101880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 3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7556760" y="2158920"/>
            <a:ext cx="101880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 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0"/>
          <p:cNvSpPr/>
          <p:nvPr/>
        </p:nvSpPr>
        <p:spPr>
          <a:xfrm>
            <a:off x="4483800" y="586908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2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5993640" y="58644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1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446960" y="585936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  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40"/>
          <p:cNvGrpSpPr/>
          <p:nvPr/>
        </p:nvGrpSpPr>
        <p:grpSpPr>
          <a:xfrm>
            <a:off x="4586400" y="5765760"/>
            <a:ext cx="3963960" cy="0"/>
            <a:chOff x="4586400" y="5765760"/>
            <a:chExt cx="3963960" cy="0"/>
          </a:xfrm>
        </p:grpSpPr>
        <p:sp>
          <p:nvSpPr>
            <p:cNvPr id="402" name="Line 33"/>
            <p:cNvSpPr/>
            <p:nvPr/>
          </p:nvSpPr>
          <p:spPr>
            <a:xfrm>
              <a:off x="4586400" y="576576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>
              <a:off x="6095880" y="576576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>
              <a:off x="7605720" y="576576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39"/>
          <p:cNvGrpSpPr/>
          <p:nvPr/>
        </p:nvGrpSpPr>
        <p:grpSpPr>
          <a:xfrm>
            <a:off x="3792600" y="2662200"/>
            <a:ext cx="1025280" cy="3585600"/>
            <a:chOff x="3792600" y="2662200"/>
            <a:chExt cx="1025280" cy="3585600"/>
          </a:xfrm>
        </p:grpSpPr>
        <p:sp>
          <p:nvSpPr>
            <p:cNvPr id="406" name="Rectangle 37"/>
            <p:cNvSpPr/>
            <p:nvPr/>
          </p:nvSpPr>
          <p:spPr>
            <a:xfrm>
              <a:off x="3799080" y="2662200"/>
              <a:ext cx="257400" cy="153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36"/>
            <p:cNvSpPr/>
            <p:nvPr/>
          </p:nvSpPr>
          <p:spPr>
            <a:xfrm flipV="1" rot="5400000">
              <a:off x="3816000" y="5245560"/>
              <a:ext cx="978120" cy="10252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38"/>
            <p:cNvSpPr/>
            <p:nvPr/>
          </p:nvSpPr>
          <p:spPr>
            <a:xfrm>
              <a:off x="3799080" y="4191120"/>
              <a:ext cx="257400" cy="1574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1941480" y="5103720"/>
            <a:ext cx="6748200" cy="1004760"/>
            <a:chOff x="1941480" y="5103720"/>
            <a:chExt cx="6748200" cy="1004760"/>
          </a:xfrm>
        </p:grpSpPr>
        <p:sp>
          <p:nvSpPr>
            <p:cNvPr id="410" name="Rectangle 3"/>
            <p:cNvSpPr/>
            <p:nvPr/>
          </p:nvSpPr>
          <p:spPr>
            <a:xfrm>
              <a:off x="1941480" y="5149440"/>
              <a:ext cx="1733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3676680" y="510516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5"/>
            <p:cNvSpPr/>
            <p:nvPr/>
          </p:nvSpPr>
          <p:spPr>
            <a:xfrm>
              <a:off x="4237920" y="5360760"/>
              <a:ext cx="183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5894280" y="5103720"/>
              <a:ext cx="605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6461640" y="5127480"/>
              <a:ext cx="2228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8"/>
          <p:cNvGrpSpPr/>
          <p:nvPr/>
        </p:nvGrpSpPr>
        <p:grpSpPr>
          <a:xfrm>
            <a:off x="1793880" y="3511440"/>
            <a:ext cx="6945480" cy="1263600"/>
            <a:chOff x="1793880" y="3511440"/>
            <a:chExt cx="6945480" cy="1263600"/>
          </a:xfrm>
        </p:grpSpPr>
        <p:sp>
          <p:nvSpPr>
            <p:cNvPr id="416" name="Rectangle 9"/>
            <p:cNvSpPr/>
            <p:nvPr/>
          </p:nvSpPr>
          <p:spPr>
            <a:xfrm>
              <a:off x="1793880" y="3855600"/>
              <a:ext cx="2068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3902040" y="365112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4583160" y="422388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2"/>
            <p:cNvSpPr/>
            <p:nvPr/>
          </p:nvSpPr>
          <p:spPr>
            <a:xfrm>
              <a:off x="6062760" y="3846240"/>
              <a:ext cx="76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c0000"/>
                  </a:solidFill>
                  <a:latin typeface="Times New Roman"/>
                </a:rPr>
                <a:t>o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3"/>
            <p:cNvSpPr/>
            <p:nvPr/>
          </p:nvSpPr>
          <p:spPr>
            <a:xfrm>
              <a:off x="5114160" y="35254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4"/>
            <p:cNvSpPr/>
            <p:nvPr/>
          </p:nvSpPr>
          <p:spPr>
            <a:xfrm>
              <a:off x="4789080" y="4198680"/>
              <a:ext cx="103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6789600" y="4209840"/>
              <a:ext cx="1949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549560" y="35114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7"/>
            <p:cNvSpPr/>
            <p:nvPr/>
          </p:nvSpPr>
          <p:spPr>
            <a:xfrm>
              <a:off x="6917760" y="4184280"/>
              <a:ext cx="1652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- M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8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5"/>
          <p:cNvSpPr/>
          <p:nvPr/>
        </p:nvSpPr>
        <p:spPr>
          <a:xfrm>
            <a:off x="1763640" y="2300400"/>
            <a:ext cx="63964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verse relationship between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Multiplier &amp; MP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6"/>
          <p:cNvSpPr/>
          <p:nvPr/>
        </p:nvSpPr>
        <p:spPr>
          <a:xfrm>
            <a:off x="1806480" y="932040"/>
            <a:ext cx="7223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ultiplier Effect and the  Marginal Propen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8"/>
          <p:cNvSpPr/>
          <p:nvPr/>
        </p:nvSpPr>
        <p:spPr>
          <a:xfrm>
            <a:off x="1931040" y="92160"/>
            <a:ext cx="67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2662200" y="3056040"/>
            <a:ext cx="601560" cy="2996640"/>
            <a:chOff x="2662200" y="3056040"/>
            <a:chExt cx="601560" cy="2996640"/>
          </a:xfrm>
        </p:grpSpPr>
        <p:sp>
          <p:nvSpPr>
            <p:cNvPr id="430" name="Rectangle 20"/>
            <p:cNvSpPr/>
            <p:nvPr/>
          </p:nvSpPr>
          <p:spPr>
            <a:xfrm>
              <a:off x="2662200" y="3056040"/>
              <a:ext cx="60156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1"/>
            <p:cNvSpPr/>
            <p:nvPr/>
          </p:nvSpPr>
          <p:spPr>
            <a:xfrm>
              <a:off x="2700360" y="3670560"/>
              <a:ext cx="56340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2"/>
            <p:cNvSpPr/>
            <p:nvPr/>
          </p:nvSpPr>
          <p:spPr>
            <a:xfrm>
              <a:off x="2725560" y="4284720"/>
              <a:ext cx="53820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23"/>
            <p:cNvSpPr/>
            <p:nvPr/>
          </p:nvSpPr>
          <p:spPr>
            <a:xfrm>
              <a:off x="2787480" y="4885560"/>
              <a:ext cx="47628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24"/>
            <p:cNvSpPr/>
            <p:nvPr/>
          </p:nvSpPr>
          <p:spPr>
            <a:xfrm>
              <a:off x="2876400" y="5499720"/>
              <a:ext cx="387360" cy="55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25"/>
          <p:cNvGrpSpPr/>
          <p:nvPr/>
        </p:nvGrpSpPr>
        <p:grpSpPr>
          <a:xfrm>
            <a:off x="3308400" y="3056040"/>
            <a:ext cx="5095800" cy="2996640"/>
            <a:chOff x="3308400" y="3056040"/>
            <a:chExt cx="5095800" cy="2996640"/>
          </a:xfrm>
        </p:grpSpPr>
        <p:sp>
          <p:nvSpPr>
            <p:cNvPr id="436" name="Rectangle 26"/>
            <p:cNvSpPr/>
            <p:nvPr/>
          </p:nvSpPr>
          <p:spPr>
            <a:xfrm>
              <a:off x="3308400" y="3056040"/>
              <a:ext cx="5095800" cy="552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7"/>
            <p:cNvSpPr/>
            <p:nvPr/>
          </p:nvSpPr>
          <p:spPr>
            <a:xfrm>
              <a:off x="3308400" y="3670560"/>
              <a:ext cx="2527200" cy="552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8"/>
            <p:cNvSpPr/>
            <p:nvPr/>
          </p:nvSpPr>
          <p:spPr>
            <a:xfrm>
              <a:off x="3308400" y="4284720"/>
              <a:ext cx="2054160" cy="552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29"/>
            <p:cNvSpPr/>
            <p:nvPr/>
          </p:nvSpPr>
          <p:spPr>
            <a:xfrm>
              <a:off x="3308400" y="4885560"/>
              <a:ext cx="1403280" cy="552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30"/>
            <p:cNvSpPr/>
            <p:nvPr/>
          </p:nvSpPr>
          <p:spPr>
            <a:xfrm>
              <a:off x="3308400" y="5499720"/>
              <a:ext cx="938160" cy="552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Text Box 31"/>
          <p:cNvSpPr/>
          <p:nvPr/>
        </p:nvSpPr>
        <p:spPr>
          <a:xfrm>
            <a:off x="2469600" y="241452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4793400" y="241452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3"/>
          <p:cNvSpPr/>
          <p:nvPr/>
        </p:nvSpPr>
        <p:spPr>
          <a:xfrm>
            <a:off x="3301920" y="3059280"/>
            <a:ext cx="1800" cy="300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1989720" y="1143000"/>
            <a:ext cx="649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MPC and the Multipl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7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47320" y="850680"/>
            <a:ext cx="82501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45-degree lin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onsumption schedu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aving schedu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break-even incom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average propensity to consume (APC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average propensity to save (AP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marginal propensity to consume (MPC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marginal propensity to save (MP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wealth effec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expected rate of retur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investment demand cur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3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multipli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WordArt 5"/>
          <p:cNvSpPr txBox="1"/>
          <p:nvPr/>
        </p:nvSpPr>
        <p:spPr>
          <a:xfrm>
            <a:off x="1581120" y="128520"/>
            <a:ext cx="59054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EY TERM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roeconomic variables---In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turn, measured over a given time period, for the use of factors of production. It may take the forms of payments for labor, rent, dividends, interest or pro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xford dictionary of Finance and Banking, Indian edition 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set aside by individuals, either for some special purpose or to provide an income at some time in future.                                   (Oxford dictionary of Finance and Banking, Indian edition 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 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is the charge made for borrowing a sum of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rate is the charge made expressed as a percentage of the total sum loaned for a stated period of time(usually one year)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Oxford dictionary of Finance and Banking, Indian edition 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chase of capital goods such as plant and machinery in a factory in order to produce goods for future consumption---capital Inves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chase of assets, such as securities etc. with a primary view to their financial return, either as income or capital gain—financial Investment. (Oxford dictionary of Finance and Banking, Indian edition 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2880" y="1217520"/>
            <a:ext cx="68914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99"/>
                </a:solidFill>
                <a:latin typeface="Calibri"/>
              </a:rPr>
              <a:t>Basic</a:t>
            </a:r>
            <a:br>
              <a:rPr sz="6500"/>
            </a:br>
            <a:r>
              <a:rPr b="1" lang="en-US" sz="6500" spc="-1" strike="noStrike">
                <a:solidFill>
                  <a:srgbClr val="000099"/>
                </a:solidFill>
                <a:latin typeface="Calibri"/>
              </a:rPr>
              <a:t>Macroeconomic Relationship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104"/>
          <p:cNvGrpSpPr/>
          <p:nvPr/>
        </p:nvGrpSpPr>
        <p:grpSpPr>
          <a:xfrm>
            <a:off x="4802040" y="4013280"/>
            <a:ext cx="2997360" cy="1952280"/>
            <a:chOff x="4802040" y="4013280"/>
            <a:chExt cx="2997360" cy="1952280"/>
          </a:xfrm>
        </p:grpSpPr>
        <p:sp>
          <p:nvSpPr>
            <p:cNvPr id="62" name="Freeform 17"/>
            <p:cNvSpPr/>
            <p:nvPr/>
          </p:nvSpPr>
          <p:spPr>
            <a:xfrm>
              <a:off x="6252120" y="4598280"/>
              <a:ext cx="1268640" cy="1300320"/>
            </a:xfrm>
            <a:prstGeom prst="pie">
              <a:avLst/>
            </a:prstGeom>
            <a:solidFill>
              <a:srgbClr val="ffff99"/>
            </a:solidFill>
            <a:ln w="0">
              <a:solidFill>
                <a:srgbClr val="ff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6252120" y="4932720"/>
              <a:ext cx="293400" cy="50112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6513480" y="5146560"/>
              <a:ext cx="101160" cy="32436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6618600" y="4890960"/>
              <a:ext cx="238680" cy="43200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1"/>
            <p:cNvSpPr/>
            <p:nvPr/>
          </p:nvSpPr>
          <p:spPr>
            <a:xfrm>
              <a:off x="6911280" y="4698360"/>
              <a:ext cx="75240" cy="9360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6661440" y="4936680"/>
              <a:ext cx="261360" cy="58536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3"/>
            <p:cNvSpPr/>
            <p:nvPr/>
          </p:nvSpPr>
          <p:spPr>
            <a:xfrm>
              <a:off x="6807240" y="4665600"/>
              <a:ext cx="292320" cy="98100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4"/>
            <p:cNvSpPr/>
            <p:nvPr/>
          </p:nvSpPr>
          <p:spPr>
            <a:xfrm>
              <a:off x="7063920" y="4669560"/>
              <a:ext cx="362880" cy="50760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7025760" y="5108040"/>
              <a:ext cx="345960" cy="56808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7154640" y="5664600"/>
              <a:ext cx="236160" cy="29988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7422120" y="4221720"/>
              <a:ext cx="372240" cy="409680"/>
            </a:xfrm>
            <a:prstGeom prst="pie">
              <a:avLst/>
            </a:pr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6372720" y="4337640"/>
              <a:ext cx="421200" cy="502920"/>
            </a:xfrm>
            <a:prstGeom prst="pie">
              <a:avLst/>
            </a:pr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>
              <a:off x="6239160" y="4044960"/>
              <a:ext cx="565560" cy="38196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4812480" y="4672800"/>
              <a:ext cx="2513880" cy="1291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1"/>
            <p:cNvSpPr/>
            <p:nvPr/>
          </p:nvSpPr>
          <p:spPr>
            <a:xfrm>
              <a:off x="5882040" y="5569920"/>
              <a:ext cx="513000" cy="39456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>
              <a:off x="6212880" y="5405040"/>
              <a:ext cx="518040" cy="17244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>
              <a:off x="5144400" y="5246280"/>
              <a:ext cx="846360" cy="71820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4878360" y="5577480"/>
              <a:ext cx="852120" cy="261720"/>
            </a:xfrm>
            <a:prstGeom prst="pie">
              <a:avLst/>
            </a:pr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5060880" y="5797800"/>
              <a:ext cx="126360" cy="16668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5956200" y="5215680"/>
              <a:ext cx="117720" cy="10836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5140800" y="4942080"/>
              <a:ext cx="557280" cy="66312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>
              <a:off x="4812480" y="4752720"/>
              <a:ext cx="1101960" cy="1006560"/>
            </a:xfrm>
            <a:prstGeom prst="pie">
              <a:avLst/>
            </a:pr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>
              <a:off x="5749560" y="4941000"/>
              <a:ext cx="149040" cy="37980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>
              <a:off x="5724360" y="4928400"/>
              <a:ext cx="118080" cy="46584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>
              <a:off x="5847480" y="4980600"/>
              <a:ext cx="28080" cy="4464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>
              <a:off x="5612400" y="4376880"/>
              <a:ext cx="503640" cy="505080"/>
            </a:xfrm>
            <a:prstGeom prst="pie">
              <a:avLst/>
            </a:pr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5636160" y="4014000"/>
              <a:ext cx="567000" cy="41904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>
              <a:off x="5648040" y="4082040"/>
              <a:ext cx="494280" cy="351000"/>
            </a:xfrm>
            <a:prstGeom prst="pie">
              <a:avLst/>
            </a:prstGeom>
            <a:solidFill>
              <a:srgbClr val="622100"/>
            </a:solidFill>
            <a:ln w="0">
              <a:solidFill>
                <a:srgbClr val="62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>
              <a:off x="5924880" y="4476960"/>
              <a:ext cx="53640" cy="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46"/>
            <p:cNvSpPr/>
            <p:nvPr/>
          </p:nvSpPr>
          <p:spPr>
            <a:xfrm>
              <a:off x="6061320" y="4487760"/>
              <a:ext cx="34560" cy="30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47"/>
            <p:cNvSpPr/>
            <p:nvPr/>
          </p:nvSpPr>
          <p:spPr>
            <a:xfrm>
              <a:off x="6509880" y="4428000"/>
              <a:ext cx="150480" cy="10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6379920" y="4430160"/>
              <a:ext cx="252000" cy="261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6231960" y="4235400"/>
              <a:ext cx="584640" cy="671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50"/>
            <p:cNvSpPr/>
            <p:nvPr/>
          </p:nvSpPr>
          <p:spPr>
            <a:xfrm>
              <a:off x="6690240" y="4499280"/>
              <a:ext cx="41400" cy="136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1"/>
            <p:cNvSpPr/>
            <p:nvPr/>
          </p:nvSpPr>
          <p:spPr>
            <a:xfrm>
              <a:off x="6573240" y="4547160"/>
              <a:ext cx="125280" cy="188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>
              <a:off x="6695280" y="4439880"/>
              <a:ext cx="122760" cy="415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53"/>
            <p:cNvSpPr/>
            <p:nvPr/>
          </p:nvSpPr>
          <p:spPr>
            <a:xfrm>
              <a:off x="6739200" y="4435560"/>
              <a:ext cx="39240" cy="106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54"/>
            <p:cNvSpPr/>
            <p:nvPr/>
          </p:nvSpPr>
          <p:spPr>
            <a:xfrm>
              <a:off x="6397920" y="4512240"/>
              <a:ext cx="80640" cy="49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55"/>
            <p:cNvSpPr/>
            <p:nvPr/>
          </p:nvSpPr>
          <p:spPr>
            <a:xfrm>
              <a:off x="6251040" y="4043880"/>
              <a:ext cx="480960" cy="354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6"/>
            <p:cNvSpPr/>
            <p:nvPr/>
          </p:nvSpPr>
          <p:spPr>
            <a:xfrm>
              <a:off x="6308280" y="4266360"/>
              <a:ext cx="452160" cy="70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57"/>
            <p:cNvSpPr/>
            <p:nvPr/>
          </p:nvSpPr>
          <p:spPr>
            <a:xfrm>
              <a:off x="6678360" y="4652640"/>
              <a:ext cx="416520" cy="644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8"/>
            <p:cNvSpPr/>
            <p:nvPr/>
          </p:nvSpPr>
          <p:spPr>
            <a:xfrm>
              <a:off x="6392880" y="4663440"/>
              <a:ext cx="461520" cy="723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9"/>
            <p:cNvSpPr/>
            <p:nvPr/>
          </p:nvSpPr>
          <p:spPr>
            <a:xfrm>
              <a:off x="6658200" y="5136840"/>
              <a:ext cx="35640" cy="57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0"/>
            <p:cNvSpPr/>
            <p:nvPr/>
          </p:nvSpPr>
          <p:spPr>
            <a:xfrm>
              <a:off x="6290280" y="4947480"/>
              <a:ext cx="153720" cy="362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1"/>
            <p:cNvSpPr/>
            <p:nvPr/>
          </p:nvSpPr>
          <p:spPr>
            <a:xfrm>
              <a:off x="6234120" y="5144400"/>
              <a:ext cx="173160" cy="246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62"/>
            <p:cNvSpPr/>
            <p:nvPr/>
          </p:nvSpPr>
          <p:spPr>
            <a:xfrm>
              <a:off x="6068160" y="5335920"/>
              <a:ext cx="1274760" cy="629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3"/>
            <p:cNvSpPr/>
            <p:nvPr/>
          </p:nvSpPr>
          <p:spPr>
            <a:xfrm>
              <a:off x="6595920" y="5014440"/>
              <a:ext cx="295560" cy="561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64"/>
            <p:cNvSpPr/>
            <p:nvPr/>
          </p:nvSpPr>
          <p:spPr>
            <a:xfrm>
              <a:off x="6259320" y="5462640"/>
              <a:ext cx="115560" cy="80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65"/>
            <p:cNvSpPr/>
            <p:nvPr/>
          </p:nvSpPr>
          <p:spPr>
            <a:xfrm>
              <a:off x="6923160" y="4358880"/>
              <a:ext cx="797040" cy="1606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66"/>
            <p:cNvSpPr/>
            <p:nvPr/>
          </p:nvSpPr>
          <p:spPr>
            <a:xfrm>
              <a:off x="7117560" y="4683600"/>
              <a:ext cx="125280" cy="68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67"/>
            <p:cNvSpPr/>
            <p:nvPr/>
          </p:nvSpPr>
          <p:spPr>
            <a:xfrm>
              <a:off x="7422120" y="4318560"/>
              <a:ext cx="244440" cy="106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68"/>
            <p:cNvSpPr/>
            <p:nvPr/>
          </p:nvSpPr>
          <p:spPr>
            <a:xfrm>
              <a:off x="7547400" y="4204440"/>
              <a:ext cx="252000" cy="139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69"/>
            <p:cNvSpPr/>
            <p:nvPr/>
          </p:nvSpPr>
          <p:spPr>
            <a:xfrm>
              <a:off x="7659720" y="4347000"/>
              <a:ext cx="60480" cy="123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0"/>
            <p:cNvSpPr/>
            <p:nvPr/>
          </p:nvSpPr>
          <p:spPr>
            <a:xfrm>
              <a:off x="5878440" y="4467600"/>
              <a:ext cx="113400" cy="34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1"/>
            <p:cNvSpPr/>
            <p:nvPr/>
          </p:nvSpPr>
          <p:spPr>
            <a:xfrm>
              <a:off x="5915520" y="4486680"/>
              <a:ext cx="58320" cy="21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72"/>
            <p:cNvSpPr/>
            <p:nvPr/>
          </p:nvSpPr>
          <p:spPr>
            <a:xfrm>
              <a:off x="5669640" y="4306680"/>
              <a:ext cx="541800" cy="17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73"/>
            <p:cNvSpPr/>
            <p:nvPr/>
          </p:nvSpPr>
          <p:spPr>
            <a:xfrm>
              <a:off x="6038280" y="4431240"/>
              <a:ext cx="87120" cy="187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74"/>
            <p:cNvSpPr/>
            <p:nvPr/>
          </p:nvSpPr>
          <p:spPr>
            <a:xfrm>
              <a:off x="5631120" y="4535640"/>
              <a:ext cx="472680" cy="495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75"/>
            <p:cNvSpPr/>
            <p:nvPr/>
          </p:nvSpPr>
          <p:spPr>
            <a:xfrm>
              <a:off x="5895360" y="4579200"/>
              <a:ext cx="82080" cy="86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76"/>
            <p:cNvSpPr/>
            <p:nvPr/>
          </p:nvSpPr>
          <p:spPr>
            <a:xfrm>
              <a:off x="5956200" y="4595400"/>
              <a:ext cx="117720" cy="795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77"/>
            <p:cNvSpPr/>
            <p:nvPr/>
          </p:nvSpPr>
          <p:spPr>
            <a:xfrm>
              <a:off x="5907240" y="4672800"/>
              <a:ext cx="142920" cy="4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78"/>
            <p:cNvSpPr/>
            <p:nvPr/>
          </p:nvSpPr>
          <p:spPr>
            <a:xfrm>
              <a:off x="5947560" y="4730400"/>
              <a:ext cx="87120" cy="59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79"/>
            <p:cNvSpPr/>
            <p:nvPr/>
          </p:nvSpPr>
          <p:spPr>
            <a:xfrm>
              <a:off x="5586120" y="4015080"/>
              <a:ext cx="428400" cy="699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0"/>
            <p:cNvSpPr/>
            <p:nvPr/>
          </p:nvSpPr>
          <p:spPr>
            <a:xfrm>
              <a:off x="5736600" y="4492080"/>
              <a:ext cx="67680" cy="10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1"/>
            <p:cNvSpPr/>
            <p:nvPr/>
          </p:nvSpPr>
          <p:spPr>
            <a:xfrm>
              <a:off x="5770800" y="4519800"/>
              <a:ext cx="572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82"/>
            <p:cNvSpPr/>
            <p:nvPr/>
          </p:nvSpPr>
          <p:spPr>
            <a:xfrm>
              <a:off x="5804640" y="4541760"/>
              <a:ext cx="39240" cy="5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3"/>
            <p:cNvSpPr/>
            <p:nvPr/>
          </p:nvSpPr>
          <p:spPr>
            <a:xfrm>
              <a:off x="5836680" y="4563000"/>
              <a:ext cx="1512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6041880" y="4123800"/>
              <a:ext cx="45360" cy="185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85"/>
            <p:cNvSpPr/>
            <p:nvPr/>
          </p:nvSpPr>
          <p:spPr>
            <a:xfrm>
              <a:off x="5913000" y="4013280"/>
              <a:ext cx="217080" cy="258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86"/>
            <p:cNvSpPr/>
            <p:nvPr/>
          </p:nvSpPr>
          <p:spPr>
            <a:xfrm>
              <a:off x="5651640" y="4463280"/>
              <a:ext cx="63000" cy="133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87"/>
            <p:cNvSpPr/>
            <p:nvPr/>
          </p:nvSpPr>
          <p:spPr>
            <a:xfrm>
              <a:off x="5999040" y="4547160"/>
              <a:ext cx="12960" cy="45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88"/>
            <p:cNvSpPr/>
            <p:nvPr/>
          </p:nvSpPr>
          <p:spPr>
            <a:xfrm>
              <a:off x="6653160" y="4442040"/>
              <a:ext cx="34560" cy="39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89"/>
            <p:cNvSpPr/>
            <p:nvPr/>
          </p:nvSpPr>
          <p:spPr>
            <a:xfrm>
              <a:off x="5472720" y="4678200"/>
              <a:ext cx="168120" cy="327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90"/>
            <p:cNvSpPr/>
            <p:nvPr/>
          </p:nvSpPr>
          <p:spPr>
            <a:xfrm>
              <a:off x="5857200" y="4901760"/>
              <a:ext cx="89280" cy="201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1"/>
            <p:cNvSpPr/>
            <p:nvPr/>
          </p:nvSpPr>
          <p:spPr>
            <a:xfrm>
              <a:off x="5014440" y="4754880"/>
              <a:ext cx="467640" cy="173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92"/>
            <p:cNvSpPr/>
            <p:nvPr/>
          </p:nvSpPr>
          <p:spPr>
            <a:xfrm>
              <a:off x="4838760" y="4942080"/>
              <a:ext cx="211320" cy="576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3"/>
            <p:cNvSpPr/>
            <p:nvPr/>
          </p:nvSpPr>
          <p:spPr>
            <a:xfrm>
              <a:off x="4880520" y="4942080"/>
              <a:ext cx="1197000" cy="762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94"/>
            <p:cNvSpPr/>
            <p:nvPr/>
          </p:nvSpPr>
          <p:spPr>
            <a:xfrm>
              <a:off x="5758920" y="4949640"/>
              <a:ext cx="152640" cy="174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95"/>
            <p:cNvSpPr/>
            <p:nvPr/>
          </p:nvSpPr>
          <p:spPr>
            <a:xfrm>
              <a:off x="5723280" y="5119920"/>
              <a:ext cx="84600" cy="323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96"/>
            <p:cNvSpPr/>
            <p:nvPr/>
          </p:nvSpPr>
          <p:spPr>
            <a:xfrm>
              <a:off x="5834160" y="5163480"/>
              <a:ext cx="9360" cy="149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97"/>
            <p:cNvSpPr/>
            <p:nvPr/>
          </p:nvSpPr>
          <p:spPr>
            <a:xfrm>
              <a:off x="5952600" y="4995360"/>
              <a:ext cx="218160" cy="39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98"/>
            <p:cNvSpPr/>
            <p:nvPr/>
          </p:nvSpPr>
          <p:spPr>
            <a:xfrm>
              <a:off x="4802040" y="5532840"/>
              <a:ext cx="807840" cy="328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99"/>
            <p:cNvSpPr/>
            <p:nvPr/>
          </p:nvSpPr>
          <p:spPr>
            <a:xfrm>
              <a:off x="5463000" y="5639400"/>
              <a:ext cx="228960" cy="89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00"/>
            <p:cNvSpPr/>
            <p:nvPr/>
          </p:nvSpPr>
          <p:spPr>
            <a:xfrm>
              <a:off x="5103720" y="5802120"/>
              <a:ext cx="222120" cy="162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01"/>
            <p:cNvSpPr/>
            <p:nvPr/>
          </p:nvSpPr>
          <p:spPr>
            <a:xfrm>
              <a:off x="5038200" y="5812560"/>
              <a:ext cx="61920" cy="152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2"/>
            <p:cNvSpPr/>
            <p:nvPr/>
          </p:nvSpPr>
          <p:spPr>
            <a:xfrm flipH="1">
              <a:off x="5882040" y="5529600"/>
              <a:ext cx="475920" cy="43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216080" y="0"/>
            <a:ext cx="68655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alibri"/>
              </a:rPr>
              <a:t>Income – Consumption an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alibri"/>
              </a:rPr>
              <a:t>Income – Saving Relationship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27200" y="1025640"/>
            <a:ext cx="71532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Personal Saving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Consumption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(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Disposable Incom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(D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S = DI -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45-Degre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The Consumption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The Sav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Break-even Inco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5T16:57:38Z</dcterms:created>
  <dc:creator>Norman Hollingsworth</dc:creator>
  <dc:description>Copyright McGraw-Hill/Irwin, Inc. 2005</dc:description>
  <dc:language>en-US</dc:language>
  <cp:lastModifiedBy>Shams</cp:lastModifiedBy>
  <dcterms:modified xsi:type="dcterms:W3CDTF">2007-10-16T18:47:46Z</dcterms:modified>
  <cp:revision>131</cp:revision>
  <dc:subject>McConnell-Brue 16/e</dc:subject>
  <dc:title>Chapter 9 - Building the Aggregate Expenditures Model</dc:title>
</cp:coreProperties>
</file>